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CCC-A36E-45DA-8C30-4A7A0722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B4D-B1A2-4E1D-B00F-D7E1B2E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948-F9C7-4035-B261-D96DBA60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76D-3B05-4E91-8427-46A85831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56FC-5635-4C85-AC66-6E9AD1EC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6EBC-6C76-4FF5-A437-5592321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96BF-8E9C-4355-BD7F-AE19496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8215-19BD-46BC-A98D-D96913D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5B3D-2C29-4C70-B2F6-A8DF5CD8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A633-AE26-427D-9184-D17DADD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068-FF0F-4E1A-8657-E48BBF50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6DB-7DD8-4AD1-98F5-AB06B55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42DA-5800-4638-8602-5C326F78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B8E-1C1D-4E4A-BF79-63CB58E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2E0-8040-449D-A858-A76C8AF1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07B1-D6BA-4BB1-B4B6-5FB6738C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D4AE-24CA-4448-8AB5-223429EA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A196-3088-45E1-BDAE-CA26BDCF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2EB0-A77F-4288-91BB-30EEAE5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FBAB-A939-4411-83B2-68BBB8E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7A62-458B-4DA7-A09E-E743610E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C174-FF02-4B8C-AB2E-B206DF3E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90B-8CAE-45BE-AD5B-5DA21B0E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0E35-3644-4DB5-A092-D273796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A351-F1C5-41E6-A8AA-7164096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BF8A-3930-422C-BB7C-ED398B9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9923-6D26-4EC8-942C-BC80FB11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A376-2969-468F-88FA-D7ED52D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F3FF-1060-4D57-946B-B352FC26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CD4D-6953-478A-97F7-A22A2A4A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93143-D425-4137-A63A-1283AB35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08E7-C71F-4E9E-B5FF-CB36DD64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D4DE-1A7C-40AC-A216-65053080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33B-C05E-4AD7-BC0D-DF12DAD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D30F-8F05-49C9-8563-E2612BDB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7441-6156-4A03-8A0B-73ADE245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CAF0-3574-4427-B64B-FDA473B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6D575-4250-4E73-B9A9-25F94DB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EFF0-D353-4774-8F7D-681A5DB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5047-582D-4473-AB59-703C179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AACC-826D-4EAB-8FDA-A760F56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C253-25EC-41D9-8842-E23B69AE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582B-E8B9-4F5A-9109-F925D455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9B3-5E97-4088-9416-A5D5E99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D8F-B395-49A1-A1AE-9C4567D5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349-EB02-4141-BD62-A88F270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065-F542-4A3E-A00A-CECACC5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4D9-CDC2-4A8A-ACF0-4ED4BFEC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7C4-5FB8-4AAE-BB47-BAF88446A16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2C35-00FD-438E-B7E7-F09960287B4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220-6EB6-445F-A59F-D35ECDE91D9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D3AD-DE2C-40B8-8C43-6E0DE431BB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Danijela Todorovic</cp:lastModifiedBy>
  <dcterms:modified xsi:type="dcterms:W3CDTF">2018-09-03T11:48:56Z</dcterms:modified>
  <cp:revision>100</cp:revision>
  <dc:subject/>
  <dc:title>2-Humani genom</dc:title>
</cp:coreProperties>
</file>