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B4B-8213-467B-A1AA-70B1B748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254-E4A3-4FA7-B137-96CF39C8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E89-4591-4BFA-8B3B-C0D16D2B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34F-6643-415F-9523-0EAA907B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05F1-002C-4A14-AFD6-809F774C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5BC7-FCC9-4261-8138-3CD01532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8ED-03F2-47FD-ADE2-F3706EA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09C-4590-469D-99B4-2B9391A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41DB-0DB0-435F-8E24-7414293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0929-89D6-44B2-9178-28865853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B991-C279-4089-8EA6-693DB4B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5B6-9979-404F-9AC0-38D462AE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9AA9-4EF5-418D-9CA9-0B24C84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4DA-9AA3-4556-97A8-23DB9D8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4DF0-6166-4364-8612-0D4CBC4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AFD9-ACC5-4291-9CBB-825536E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B874-035F-4F19-A62B-A70722BA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72EA-5502-4098-B645-A0C4FACA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18A9-0595-472C-9315-6F5D55F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864D-7177-46BA-B0C2-6742924A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0516-46A3-4E8E-9581-2C2F59FD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69799-563E-4DCA-9327-94FD7746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497-82EC-4A0B-9BF8-5821E10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A055-5C35-40FF-930C-15C48C8F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1E45-EA06-4581-9D50-41F1FD0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DEA2-1276-4529-91E4-9A3EBE4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6E25-1C25-4416-83C3-84CF8DF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AF4A-2565-4101-ABCD-1FAE3E1C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37FA-9555-41B0-8734-10461FF6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B21A-797A-40D5-A320-4CE1F9FE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A4E3-E357-435F-8A4F-1B9B7BD5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CEED-9E6C-4AE8-94C5-9673511A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F06D-6558-46D4-8079-90C4650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A6D-24E9-443F-8F30-A6A2CFA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95D0-3721-4D2C-B484-A29F118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5482-6266-4367-9B87-B14CF9F8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7D23-9276-41A2-A890-C887D8BF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52B0-29FF-4FCC-8B41-EA9CE180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6105-6740-4DC7-9826-0CF8550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EDF6-AC69-43AB-8A6B-931CF9EC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FEE1E-C9CF-4815-A40E-078C4385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98D2-50C7-4EAA-A8D3-FC2680DD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776F-AC62-48D7-9783-0728CABD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2C7AF-2F7B-4146-8980-5944524C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80F-1E09-4FD0-8725-AEB7B78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FD8E-C14C-49A3-A023-F9002C80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DC825-0164-492A-8FBA-511EB94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051F-A896-48C6-A9D3-1D15165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79A45-1EA3-41DD-9EF5-A1DE248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7B4C-AAC5-495E-B78F-0D3384EC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563E-277A-4F56-81A2-DE3F34D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3947-639A-4A2B-A9F5-596079D8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99825-53FA-4C7B-A9E3-5795533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E0D4-3883-4208-B10C-E3364969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0F53-CF34-4542-B349-7E2933CD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850-C178-4B00-A7A0-4B91904F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D50F-B225-4485-A787-2EC37B9E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CC4-FE54-4F39-8FB9-7356916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315-163A-4A23-B2CF-CB6CC7A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94D-5005-4360-BCF9-AE555AC8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476-C082-45A2-AB79-1467C1EDE5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45FC-F9AB-48AE-A663-6070EEBA1DA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4D13-C845-4BF8-919E-543B2A77514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B56-1B95-42D3-BA16-742D8320D82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74BD-6AD9-4591-85C7-B05EF495351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НУКЛЕИНСКЕ КИСЕЛИНЕ:</a:t>
            </a:r>
            <a:br>
              <a:rPr sz="6000"/>
            </a:b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ДНК и РНК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nstantia"/>
              </a:rPr>
              <a:t>Фракције РН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 РН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налазе се у сплајсозомима, имају улогу у обради примарне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o РНК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ају улогу у модификацији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kro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дужине 22 нуклеотида, везују се за иРНК и регулишу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ntisens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искључује кодирајуће сегменте у  ДНК (se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е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16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3276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3100"/>
            </a:br>
            <a:br>
              <a:rPr sz="3100"/>
            </a:br>
            <a:br>
              <a:rPr sz="3100"/>
            </a:br>
            <a:r>
              <a:rPr b="1" lang="sr-CS" sz="31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3100"/>
            </a:br>
            <a:br>
              <a:rPr sz="3100"/>
            </a:br>
            <a:r>
              <a:rPr b="1" lang="sr-Latn-CS" sz="31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3100"/>
            </a:b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038480" y="1676520"/>
            <a:ext cx="4114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1920600"/>
            <a:ext cx="4114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носи информацију за синтезу функционалног проду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распореда и редоследа 4 типа нуклеотида (А тип, G тип, C тип, Т тип нуклеоти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2" name="Object 6"/>
          <p:cNvGraphicFramePr/>
          <p:nvPr/>
        </p:nvGraphicFramePr>
        <p:xfrm>
          <a:off x="5638680" y="228600"/>
          <a:ext cx="327672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"/>
                    <a:ext cx="3276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6477120" y="3505320"/>
          <a:ext cx="2170080" cy="31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17008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3:04Z</dcterms:modified>
  <cp:revision>100</cp:revision>
  <dc:subject/>
  <dc:title>2-Humani genom</dc:title>
</cp:coreProperties>
</file>